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04F1-339C-4A4E-BA69-C99B82EBC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all of your documents to the items abov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all of your documents to the items abov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72FC-473C-4535-9E4A-CF8CE574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4C71-4039-4E1D-AC5C-3A706C2B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55AD-3D2D-4D81-A617-E0B1C35B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0CB6-5B9B-437B-947F-336E7920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7556-87F0-4652-BDF9-7A918194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CEF8-C580-4BB2-BC81-89279F4D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E29C-BD72-49AA-94DC-E2234355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C297-64F2-4460-AEDD-2C2BF648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545D-11A7-4B44-8761-25EBCB81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6533-218D-4C23-9F7D-C54BF70A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789C-68C7-4A36-9135-2FFDD476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92A8-6D59-4A27-90C2-A7D53308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64BE-A80B-4169-87F4-533C4FF0E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Verdana"/>
              </a:rPr>
              <a:t>Indicaţii privind realizarea </a:t>
            </a:r>
            <a:br>
              <a:rPr sz="3200"/>
            </a:br>
            <a:r>
              <a:rPr b="0" lang="ro-RO" sz="3200" spc="-1" strike="noStrike">
                <a:solidFill>
                  <a:srgbClr val="000000"/>
                </a:solidFill>
                <a:latin typeface="Verdana"/>
              </a:rPr>
              <a:t>portofoliului 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tili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zaţi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Ghid de asistenţă dacă aveţi nevoie de suport în completarea oricărei abilităţi tehnologice identificate mai j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Pe diapozitivul introductiv, scrieţi titlul unităţii de învăţare, numele dumneavoastră, descrierea unităţii de învăţare şi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lasa/clasele vizate prin unitatea de învăţare – nivelul sau anul de studiu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Pe următorul diapozitiv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Creaţi legături (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perlink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) către documentele dumneavoastr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Multimedia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, Abilitate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7.9), 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s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c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ă veţi muta portofoliul dumneavoastră pe alt calculator după crearea legăturilor, inseraţi documetele ca şi obiec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(Multimedia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, Abilitatea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.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Inserarea documentelor poate creşte foarte mult dimensiunea prezentă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66"/>
                </a:solidFill>
                <a:latin typeface="Verdana"/>
              </a:rPr>
              <a:t>Ştergeţi acest diapozitiv când aţi finalizat prezentarea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. </a:t>
            </a: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(Multimedia </a:t>
            </a:r>
            <a:r>
              <a:rPr b="0" lang="ro-RO" sz="2000" spc="-1" strike="noStrike">
                <a:solidFill>
                  <a:srgbClr val="ff0066"/>
                </a:solidFill>
                <a:latin typeface="Verdana"/>
              </a:rPr>
              <a:t>, Abilitatea</a:t>
            </a: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 3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Salvaţi această preyentare în directorul Portofoli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Prezentarea portofoliului</a:t>
            </a:r>
            <a:br>
              <a:rPr sz="4000"/>
            </a:br>
            <a:br>
              <a:rPr sz="4000"/>
            </a:b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Titlul unităţii de învăţ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240" y="4038480"/>
            <a:ext cx="746748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N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Descrierea unităţii de învăţ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lasa/clasele vizate prin unitatea de învăţare – nivelul sau anul de stud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96080" y="5562720"/>
            <a:ext cx="914400" cy="887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480" y="2743200"/>
            <a:ext cx="909360" cy="1066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122640" y="22860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Titlul unităţii de învăţ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31240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Exemplul creat din perspectiva elev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41148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Evaluarea exemplului creat din perspectiva elev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54864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Alte fiş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3124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Alte fiş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648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Resurse asistenţă uni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5486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Resurse pentru facili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62120" y="304920"/>
            <a:ext cx="2512800" cy="295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019920" y="304920"/>
            <a:ext cx="2512800" cy="295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80880" y="5334120"/>
            <a:ext cx="137160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1219320" y="1143000"/>
          <a:ext cx="7543800" cy="1881360"/>
        </p:xfrm>
        <a:graphic>
          <a:graphicData uri="http://schemas.openxmlformats.org/drawingml/2006/table">
            <a:tbl>
              <a:tblPr/>
              <a:tblGrid>
                <a:gridCol w="2514600"/>
                <a:gridCol w="5029200"/>
              </a:tblGrid>
              <a:tr h="60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Întrebare esenţial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Întrebările unităţii de învăţar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Întrebări de conţinu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7772400" y="2666880"/>
            <a:ext cx="885960" cy="1324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12640" y="403380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Planul unităţii de învăţ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96080" y="5562720"/>
            <a:ext cx="914400" cy="887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909360" cy="1067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122640" y="22860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Titlul unităţii de învăţ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129528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Exemplul creat din perspectiva elev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04812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Evaluarea exemplului creat din perspectiva elev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54864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Alte fiş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3124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Alte fiş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34320" y="4648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Resurse asistenţă uni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5486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Resurse pentru facili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62120" y="304920"/>
            <a:ext cx="2512800" cy="295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019920" y="304920"/>
            <a:ext cx="2512800" cy="295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457200" y="4876920"/>
            <a:ext cx="1371600" cy="1258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7772400" y="2666880"/>
            <a:ext cx="885960" cy="1324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112640" y="403380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Planul unităţii de învăţ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02:09:36Z</dcterms:created>
  <dc:creator>slshottx</dc:creator>
  <dc:description/>
  <dc:language>en-US</dc:language>
  <cp:lastModifiedBy>Carmen</cp:lastModifiedBy>
  <dcterms:modified xsi:type="dcterms:W3CDTF">2008-10-27T13:17:55Z</dcterms:modified>
  <cp:revision>19</cp:revision>
  <dc:subject/>
  <dc:title>Unit Plan Portfolio</dc:title>
</cp:coreProperties>
</file>